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8050E-398B-46B3-9C11-742D9A1B2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6747-D61D-4216-B689-5E0D8521D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F0ECE-8574-4711-B019-9039FE26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BCC6-1D52-4E52-BD83-52D4ACE76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9D1CA-CBBE-4B07-8853-1A92C870A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AE2A3-4383-4DC6-A8E0-A159A3E0A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8A46D-6369-47A3-8AE7-3D4A21869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13D38-2397-4F78-855F-2DF2BA21B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9C085-9327-4EB3-B918-1CCA157EC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D1260-3784-4D98-8ED7-EE7D0386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71DC3-0AF3-433B-BD48-412DA61A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30066-197D-4C0F-ADB2-2C23882B6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CEEA4-A3BA-4DAB-87F1-5D911003C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D079-5B8E-49AA-8757-3408AA365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DCFD2-9363-428E-9671-9B0FA29E3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E4BE8-3C92-450E-AB53-BFF030B55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2B399-D207-416C-94DD-1CD4BC816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D431-2207-4F40-A5BB-3CD21643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FA24-E384-41EC-9223-A5048CA3E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A3FF-3C4B-44AE-A596-8F6B18F3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AF9F2-7A05-4BF2-94FC-F55CF1F39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7F18-016B-4C38-ADE1-928FF65C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9160-DC5C-4E11-8919-18E572E3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1CE1-3E06-4E5E-AEEF-4F12D8EFE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50D4-97BB-441A-9228-99A0188B2906}"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5071-F319-44A4-B338-D00B03711779}"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3200" spc="-1" strike="noStrike">
                <a:solidFill>
                  <a:srgbClr val="000000"/>
                </a:solidFill>
                <a:latin typeface="Calibri"/>
              </a:rPr>
              <a:t>Prepojenie vysokoškolského vzdelávania </a:t>
            </a:r>
            <a:br>
              <a:rPr sz="3200"/>
            </a:br>
            <a:r>
              <a:rPr b="0" i="1" lang="sk-SK" sz="3200" spc="-1" strike="noStrike">
                <a:solidFill>
                  <a:srgbClr val="000000"/>
                </a:solidFill>
                <a:latin typeface="Calibri"/>
              </a:rPr>
              <a:t>s potrebami praxe</a:t>
            </a:r>
            <a:endParaRPr b="0" lang="en-US" sz="3200" spc="-1" strike="noStrike">
              <a:solidFill>
                <a:srgbClr val="000000"/>
              </a:solidFill>
              <a:latin typeface="Calibri"/>
            </a:endParaRPr>
          </a:p>
        </p:txBody>
      </p:sp>
      <p:sp>
        <p:nvSpPr>
          <p:cNvPr id="83" name="BlokTextu 5"/>
          <p:cNvSpPr/>
          <p:nvPr/>
        </p:nvSpPr>
        <p:spPr>
          <a:xfrm>
            <a:off x="539640" y="580536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21.01.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 – </a:t>
            </a:r>
            <a:r>
              <a:rPr b="1" lang="sk-SK" sz="2400" spc="-1" strike="noStrike">
                <a:solidFill>
                  <a:srgbClr val="ff0000"/>
                </a:solidFill>
                <a:latin typeface="Calibri"/>
              </a:rPr>
              <a:t>týka sa verejných vysokých škôl</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ou cieľovou skupinou v súlade so znením OP ĽZ pre výzvu sú: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vysokých škôl (študenti dennej formy prvého, druhého a tretieho stupňa vrátane študentov so špecifickými potrebami a študentov zo sociálne znevýhodneného prostredia a marginalizovaných komunít ako sú napr. Rómovi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sokoškolskí učiteli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amestnanci v oblasti výskumu a vývoja (výskumní pracovníci a umeleckí pracovníci vysokých škôl)</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250560" y="260280"/>
            <a:ext cx="8186760" cy="583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1. Podmienka, že hlavné aktivity projektu sú vo vecnom súlade s oprávnenými aktivitami OP ĽZ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Povinná aktivita</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vorba a inovácia študijných programov s dôrazom na potreby trhu práce, vrátane prakticky zameraných bakalárskych študijných programov a programov ďalšieho vzdelávania v spolupráci so súkromným sektorom a organizáciami zastupujúcimi podnikateľský sektor, malé a stredné podnikani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12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ámka: Pre účely tejto výzvy je oprávnenou činnosťou v rámci hlavnej aktivity projektu priradenej k tomuto typu aktivity tvorba resp. inovácia profesijne orientovaných bakalárskych programov v súlade so zákonom č. 131/2002 Z. z.</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Voliteľná/nepovinná aktivita</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dpora manažérskych/podnikateľských, inovačných a riešiteľských schopností v rámci vyššieho vzdelávania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24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 7.2 a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250560" y="260280"/>
            <a:ext cx="8186760" cy="583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2. Podmienka, že výdavky projektu sú oprávnené a nárokovaná výška výdavkov je oprávnená na financovanie z OP ĽZ- samostatná ppt k podmienke (výdavkom)</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ýdavky projektu musia byť preukázateľne oprávnené na financovanie z OP ĽZ, to znamená, že sú v súlade s podmienkami oprávnenosti podrobne definovanými v dokumente Príručka pre žiadateľa (príloha č. 2 výzvy) a v súlade s prílohou č. 4 výzvy Zoznam oprávnených a neoprávnených výdavk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počet s komentárom: Rozpočet projektu s podrobným komentárom, Príloha ŽoNFP (1a), žiadateľ prílohu vkladá do ITMS2014+ vo formáte excel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počet (formulár ŽoNFP časť 11)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ieskum/y trhu (príloha č. 1c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Štruktúrovaný/é životopis/y v predpísanom formáte s uvedením overiteľných referencií – príloha č. 1e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kópie dokladu/dokladov o získanom vzdelaní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íloha 1b ŽoNFP – Doplňujúce informácie k časti 7.4 ŽoNFP Administratívna a prevádzková kapacita žiadateľ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Pokiaľ ide o oprávnenú cieľovú skupinu vysokoškolskí učitelia a zamestnanci v oblasti výskumu a vývoja , rozhodujúce je územie kraja, v rámci ktorého sú zamestna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Vzdelávanie OP Ľudské zdroj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7.12.2018</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8/2/2019</a:t>
            </a:r>
            <a:r>
              <a:rPr b="0" lang="sk-SK" sz="2400" spc="-1" strike="noStrike">
                <a:solidFill>
                  <a:srgbClr val="000000"/>
                </a:solidFill>
                <a:latin typeface="Calibri"/>
              </a:rPr>
              <a:t>, 2. kolo </a:t>
            </a:r>
            <a:r>
              <a:rPr b="1" lang="sk-SK" sz="2400" spc="-1" strike="noStrike">
                <a:solidFill>
                  <a:srgbClr val="000000"/>
                </a:solidFill>
                <a:latin typeface="Calibri"/>
              </a:rPr>
              <a:t>16/4/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3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projektov do 24 mesiacov (aktivita na tvorbu bakalárskych programov do 12 mesiacov)</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fontScale="99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4.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 rámci výzvy sa uplatňuje doplňujúce kritérium zamerané na podporu profesijne orientovaných bakalárskych programov: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čet novovytvorených profesijne orientovaných bakalárskych programov podporených z projekt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5 a viac podporených profesijne orientovaných bakalárskych programov (5 bodov)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3 a 4 podporené profesijne orientované bakalárske programy (3 body)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2 podporené profesijne orientované bakalárske programy (1 bod).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59920"/>
            <a:ext cx="8186760" cy="597708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5.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neporušenia zákazu nelegálneho zamestná-vania štátneho príslušníka tretej krajiny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ákon č. 82/2005 Z. z. o nelegálnej práci a nelegálnom zamestnávaní a o zmene a doplnení niektorých zákonov v znení neskorších predpisov)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7.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8.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3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sa nestanovuj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24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v ŽoNFP priradí „aktivitu projektu“ vopred preddefinovanému „typu aktivít“. Typy aktivít sú preddefinované vo výzve. Následne žiadateľ zadáva plánované cieľové hodnoty MU pre všetky vybrané MU v súlade s prílohou č. 3 výzvy a k aktivitám projektu priradeným vybranému typu aktivity priradí všetky povinné ukazovatele pre daný typ aktivity.</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2.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škôl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89"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5.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91"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akreditácie profesijne orientovaných bakalárskych študijných programov vysokoškolského vzdelá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93" name=""/>
          <p:cNvSpPr txBox="1"/>
          <p:nvPr/>
        </p:nvSpPr>
        <p:spPr>
          <a:xfrm>
            <a:off x="250560" y="764640"/>
            <a:ext cx="8404200" cy="1295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Žiadateli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erejné a štátne vysoké školy v zmysle § 2 ods. 2 písm. a) a b) zákona č. 121/2002 Z. z. o vysokých školách</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Nadpis 1"/>
          <p:cNvSpPr/>
          <p:nvPr/>
        </p:nvSpPr>
        <p:spPr>
          <a:xfrm>
            <a:off x="900000" y="2158920"/>
            <a:ext cx="8002800" cy="777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ea typeface="Arial"/>
              </a:rPr>
              <a:t>Oprávnené cieľové skupiny</a:t>
            </a:r>
            <a:endParaRPr b="0" lang="en-US" sz="3600" spc="-1" strike="noStrike">
              <a:solidFill>
                <a:srgbClr val="000000"/>
              </a:solidFill>
              <a:latin typeface="Arial"/>
            </a:endParaRPr>
          </a:p>
        </p:txBody>
      </p:sp>
      <p:sp>
        <p:nvSpPr>
          <p:cNvPr id="95" name="Zástupný symbol obsahu 2"/>
          <p:cNvSpPr/>
          <p:nvPr/>
        </p:nvSpPr>
        <p:spPr>
          <a:xfrm>
            <a:off x="250920" y="2906640"/>
            <a:ext cx="8404200" cy="31813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ea typeface="Arial"/>
              </a:rPr>
              <a:t>Cieľové skupiny</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študenti vysokých škôl (študenti dennej formy prvého, druhého a tretieho stupňa vrátane študentov so špecifickými potrebami a študentov zo sociálne znevýhodneného prostredia a marginalizovaných komunít ako sú napr. Rómovia)</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 </a:t>
            </a:r>
            <a:r>
              <a:rPr b="0" lang="sk-SK" sz="2400" spc="-1" strike="noStrike">
                <a:solidFill>
                  <a:srgbClr val="000000"/>
                </a:solidFill>
                <a:latin typeface="Calibri"/>
                <a:ea typeface="Arial"/>
              </a:rPr>
              <a:t>vysokoškolskí učitelia </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ea typeface="Arial"/>
              </a:rPr>
              <a:t>zamestnanci v oblasti výskumu a vývoja (výskumní pracovníci a umeleckí pracovníci VŠ)</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7" name=""/>
          <p:cNvSpPr txBox="1"/>
          <p:nvPr/>
        </p:nvSpPr>
        <p:spPr>
          <a:xfrm>
            <a:off x="324000" y="1125360"/>
            <a:ext cx="8331120" cy="53992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vinná aktivi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vorba a inovácia študijných programov s dôrazom na potreby trhu práce, vrátane prakticky zameraných bakalárskych študijných programov a programov ďalšieho vzdelávania v spolupráci so súkromným sektorom a organizáciami zastupujúcimi podnikateľský sektor, malé a stredné podnikani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Oprávnená dĺžka realizácie aktivity – maximálne 12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 účely tejto výzvy je oprávnenou činnosťou v rámci hlavnej aktivity projektu priradenej k tomuto typu aktivity </a:t>
            </a:r>
            <a:r>
              <a:rPr b="0" lang="sk-SK" sz="2000" spc="-1" strike="noStrike" u="sng">
                <a:solidFill>
                  <a:srgbClr val="000000"/>
                </a:solidFill>
                <a:uFillTx/>
                <a:latin typeface="Calibri"/>
              </a:rPr>
              <a:t>tvorba resp. inovácia profesijne orientovaných bakalárskych programov v súlade so zákonom č. 131/2002 Z. z.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u="sng">
                <a:solidFill>
                  <a:srgbClr val="000000"/>
                </a:solidFill>
                <a:uFillTx/>
                <a:latin typeface="Calibri"/>
              </a:rPr>
              <a:t>POZOR: potrebné vnímať v kontexte hodnotiaceho kritéria „Počet novovytvorených profesijne orientovaných bakalárskych programov podporených z projektu“ , t. j. musí ísť o tvorbu min. 2 program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ijímateľ je povinný počas platnosti a účinnosti Zmluvy o poskytnutí NFP predložiť žiadosť o akreditáciu profesijne orientovaného bakalárskeho študijného programu. Nepredloženie bude mať za následok krátenie výdavkov súvisiacich s aktivitou zameranou na tvorbu programu.</a:t>
            </a:r>
            <a:endParaRPr b="0" lang="en-US" sz="2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9"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liteľná/nepovinná aktivit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a:t>
            </a:r>
            <a:r>
              <a:rPr b="0" lang="sk-SK" sz="2400" spc="-1" strike="noStrike">
                <a:solidFill>
                  <a:srgbClr val="000000"/>
                </a:solidFill>
                <a:latin typeface="Calibri"/>
              </a:rPr>
              <a:t>podpora manažérskych/podnikateľských, inovačných a riešiteľských schopností v rámci vyššieho vzdeláva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á dĺžka realizácie aktivity – maximálne 24 mesiacov.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ktivita: Riadenie/koordinácia projektu – povinná ako samostatná aktivita v prípade realizácie oboch aktivít – povinnej aj voliteľnej, t. j na bakalárske programy aj podporu riešiteľských schopnost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01" name=""/>
          <p:cNvSpPr txBox="1"/>
          <p:nvPr/>
        </p:nvSpPr>
        <p:spPr>
          <a:xfrm>
            <a:off x="468000" y="1483920"/>
            <a:ext cx="8186760" cy="5040360"/>
          </a:xfrm>
          <a:prstGeom prst="rect">
            <a:avLst/>
          </a:prstGeom>
          <a:noFill/>
          <a:ln w="0">
            <a:noFill/>
          </a:ln>
        </p:spPr>
        <p:txBody>
          <a:bodyPr anchor="t">
            <a:normAutofit/>
          </a:bodyPr>
          <a:p>
            <a:pPr marL="457200" indent="-45720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erejné a štátne vysoké školy v zmysle §2 ods. 2, písm. a) a b) zákona č. 131/2002 Z. z. o vysokých školách a o zmene a doplnení niektorých zákonov v znení neskorších predpisov (Oprávneným žiadateľom je výlučne vysoká škola. Vysoká škola je oprávnená podať ŽoNFP pre viacero fakúlt, buď v rámci jednej ŽoNFP, alebo formou viacerých ŽoNFP.)</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oNFP (bod 1)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Windows User</cp:lastModifiedBy>
  <dcterms:modified xsi:type="dcterms:W3CDTF">2019-01-24T07:11:25Z</dcterms:modified>
  <cp:revision>163</cp:revision>
  <dc:subject/>
  <dc:title>Snímka 1</dc:title>
</cp:coreProperties>
</file>